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ld War and Domino Theor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944640" y="3141720"/>
            <a:ext cx="844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omino The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: the belief that if one nation in Asia fell to communism, neighboring countries would follow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6-03-15T12:52:2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